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56BC6B-8386-4FCC-98A3-E531B2F3A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B11359-67C5-49E7-BF20-E4403300497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EA2A-42D6-4383-BAB3-44BB7ACA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8BB-72EC-45BA-987D-1AFD2CB90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77ED-2ECA-4CDF-9C2E-DE52D286F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3C5F-8666-4A57-91E1-2A6516255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9E65F-EBA9-4FF8-A19C-715B96D09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5959-7FDE-4BC9-95EF-D6256E21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CCAB-E7DD-4964-AAEA-0BAAAB28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2531-2A79-4AD5-9080-701FF1CA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32DD-FA3C-429C-B18C-000F4DA1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BA0D-5ECA-481C-8738-6AEFA336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8D4FF-D7BB-4C89-8F06-7FD3296E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080F-904A-4D66-932F-6D6653FD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8509-673D-4012-A816-AFFF1CC6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491F-C7D6-4453-9052-9FE60D3C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23B0-728E-4DEB-929A-AB3D5C62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51AC-367D-4512-9DCC-CDFEF8DB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BFD7-3E9B-4E36-9C8C-DA94D39AB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EA87-4E94-4D94-A7CC-CE09E7E5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D52D-367D-42BE-8415-90B6B5A6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0E2-2934-4AD1-BDC0-75851C645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9CD-DE9C-403C-81CC-E7446520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3651-C715-437F-A379-C045623D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27E-E397-4C3A-97C7-AC90C6B8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A245-138C-4AB1-8C7D-9353DA0A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190c"/>
            </a:gs>
            <a:gs pos="100000">
              <a:srgbClr val="8c7470"/>
            </a:gs>
          </a:gsLst>
          <a:lin ang="12996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 hidden="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 hidden="1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6105600" y="0"/>
            <a:ext cx="3038040" cy="6857640"/>
          </a:xfrm>
          <a:custGeom>
            <a:avLst/>
            <a:gdLst>
              <a:gd name="textAreaLeft" fmla="*/ 0 w 3038040"/>
              <a:gd name="textAreaRight" fmla="*/ 3038400 w 30380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9120" y="3337560"/>
            <a:ext cx="6479640" cy="230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600" spc="-1" strike="noStrike" cap="all">
                <a:solidFill>
                  <a:srgbClr val="8dcfe9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aa494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FC54DA-549D-468E-9BC7-0ED9C2139783}" type="slidenum">
              <a:rPr b="0" lang="en-US" sz="1000" spc="-1" strike="noStrike">
                <a:solidFill>
                  <a:srgbClr val="aaa49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3891a7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SzPct val="85000"/>
              <a:buFont typeface="Arial"/>
              <a:buChar char="○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SzPct val="9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aa494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1A758C-EEFD-4924-BAB3-58A599F9C924}" type="slidenum">
              <a:rPr b="0" lang="en-US" sz="1000" spc="-1" strike="noStrike">
                <a:solidFill>
                  <a:srgbClr val="aaa49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8631"/>
            </a:gs>
            <a:gs pos="100000">
              <a:srgbClr val="400040"/>
            </a:gs>
          </a:gsLst>
          <a:lin ang="12996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42120" y="0"/>
            <a:ext cx="9078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chemeClr val="accent3"/>
                </a:solidFill>
                <a:latin typeface="Arial"/>
              </a:rPr>
              <a:t>Les Habitats Particuli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chemeClr val="accent3"/>
                </a:solidFill>
                <a:latin typeface="Arial"/>
              </a:rPr>
              <a:t>dans le Mon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105520" y="3200400"/>
            <a:ext cx="4876560" cy="1919880"/>
          </a:xfrm>
          <a:prstGeom prst="rect">
            <a:avLst/>
          </a:prstGeom>
          <a:noFill/>
          <a:ln w="0">
            <a:noFill/>
          </a:ln>
          <a:effectLst>
            <a:glow rad="63360">
              <a:srgbClr val="9b4200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d7195d"/>
                </a:solidFill>
                <a:latin typeface="Arial"/>
              </a:rPr>
              <a:t>Nin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d7195d"/>
                </a:solidFill>
                <a:latin typeface="Arial"/>
              </a:rPr>
              <a:t>Teodo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www.harunyahya.org/duvarkagidi/1024x768/races.jpg"/>
          <p:cNvPicPr/>
          <p:nvPr/>
        </p:nvPicPr>
        <p:blipFill>
          <a:blip r:embed="rId1"/>
          <a:stretch/>
        </p:blipFill>
        <p:spPr>
          <a:xfrm>
            <a:off x="304920" y="2286000"/>
            <a:ext cx="6095520" cy="4571640"/>
          </a:xfrm>
          <a:prstGeom prst="rect">
            <a:avLst/>
          </a:prstGeom>
          <a:ln w="0">
            <a:noFill/>
          </a:ln>
          <a:effectLst>
            <a:glow rad="228600">
              <a:srgbClr val="fed46c">
                <a:alpha val="40000"/>
              </a:srgbClr>
            </a:glow>
            <a:reflection algn="bl" blurRad="12700" dir="5400000" dist="5000" endPos="30000" rotWithShape="0" stA="30000" sy="-100000"/>
            <a:softEdge rad="12708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300"/>
            </a:gs>
            <a:gs pos="100000">
              <a:srgbClr val="835e01">
                <a:alpha val="90196"/>
              </a:srgbClr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 rot="20825400">
            <a:off x="348840" y="1321200"/>
            <a:ext cx="8144640" cy="3747960"/>
          </a:xfrm>
          <a:prstGeom prst="rect">
            <a:avLst/>
          </a:prstGeom>
          <a:blipFill rotWithShape="0">
            <a:blip r:embed="rId1"/>
            <a:srcRect/>
            <a:stretch/>
          </a:blipFill>
          <a:ln w="22225">
            <a:solidFill>
              <a:srgbClr val="c0dae4"/>
            </a:solidFill>
            <a:prstDash val="sysDash"/>
            <a:round/>
          </a:ln>
          <a:effectLst>
            <a:glow rad="228600">
              <a:srgbClr val="d9d9d9">
                <a:alpha val="40000"/>
              </a:srgbClr>
            </a:glow>
            <a:innerShdw blurRad="63500" dir="16200000" dist="50800">
              <a:srgbClr val="000000">
                <a:alpha val="50000"/>
              </a:srgbClr>
            </a:innerShdw>
          </a:effectLst>
          <a:scene3d>
            <a:camera prst="orthographicFront"/>
            <a:lightRig dir="tl" rig="soft">
              <a:rot lat="0" lon="0" rev="0"/>
            </a:lightRig>
          </a:scene3d>
          <a:sp3d>
            <a:bevelT prst="relaxedInset"/>
          </a:sp3d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rig="threePt" dir="t"/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fr-FR" sz="12000" spc="49" strike="noStrike">
                <a:solidFill>
                  <a:schemeClr val="accent2"/>
                </a:solidFill>
                <a:latin typeface="Arial"/>
              </a:rPr>
              <a:t>À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12000" spc="49" strike="noStrike">
                <a:solidFill>
                  <a:schemeClr val="accent2"/>
                </a:solidFill>
                <a:latin typeface="Arial"/>
              </a:rPr>
              <a:t>BIENTÔ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364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7225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Dans cette image nous voyons une tente qui s’appelle </a:t>
            </a:r>
            <a:r>
              <a:rPr b="1" lang="en-US" sz="2400" spc="-1" strike="noStrike">
                <a:solidFill>
                  <a:srgbClr val="ff3737"/>
                </a:solidFill>
                <a:latin typeface="Arial"/>
              </a:rPr>
              <a:t>“Gers” 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qui se trouve en Mongolie.Elle est construit de bois et elle est couverte d’une toile.A l’interior vivent pasteures mongols et ses familles.Ces tentes se trouve en Mongolie de plusieures anne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http://www.shelterpub.com/_wonderful_houses/_718/p02-03.jpg"/>
          <p:cNvPicPr/>
          <p:nvPr/>
        </p:nvPicPr>
        <p:blipFill>
          <a:blip r:embed="rId1"/>
          <a:stretch/>
        </p:blipFill>
        <p:spPr>
          <a:xfrm>
            <a:off x="228600" y="2133720"/>
            <a:ext cx="8686440" cy="4899240"/>
          </a:xfrm>
          <a:prstGeom prst="rect">
            <a:avLst/>
          </a:prstGeom>
          <a:ln w="0">
            <a:noFill/>
          </a:ln>
          <a:effectLst>
            <a:glow rad="101520">
              <a:srgbClr val="0070c0">
                <a:alpha val="60000"/>
              </a:srgbClr>
            </a:glow>
            <a:softEdge rad="112680"/>
          </a:effectLst>
        </p:spPr>
      </p:pic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shelterpub.com/_wonderful_houses/_718/p04-05.jpg"/>
          <p:cNvPicPr/>
          <p:nvPr/>
        </p:nvPicPr>
        <p:blipFill>
          <a:blip r:embed="rId1"/>
          <a:stretch/>
        </p:blipFill>
        <p:spPr>
          <a:xfrm>
            <a:off x="0" y="228600"/>
            <a:ext cx="9143640" cy="6400440"/>
          </a:xfrm>
          <a:prstGeom prst="rect">
            <a:avLst/>
          </a:prstGeom>
          <a:ln cap="rnd" w="127000">
            <a:solidFill>
              <a:srgbClr val="ffffff"/>
            </a:solidFill>
            <a:round/>
          </a:ln>
          <a:effectLst>
            <a:outerShdw algn="br" blurRad="76320" dir="10500123" dist="95041" kx="900000" rotWithShape="0" sx="97000" sy="23000">
              <a:srgbClr val="000000">
                <a:alpha val="20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152280"/>
            <a:ext cx="7924320" cy="14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marL="35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Ces maisons se trouvent en Indonesie et ils sont faites de bambou et de l’herbe.A l’interior vivent les animaux au rez-de-chaussee et dessus du personn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http://www.shelterpub.com/_wonderful_houses/_718/p10-11.jpg"/>
          <p:cNvPicPr/>
          <p:nvPr/>
        </p:nvPicPr>
        <p:blipFill>
          <a:blip r:embed="rId1"/>
          <a:stretch/>
        </p:blipFill>
        <p:spPr>
          <a:xfrm>
            <a:off x="152280" y="1676520"/>
            <a:ext cx="8762760" cy="5181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cover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icture 2"/>
          <p:cNvSpPr/>
          <p:nvPr/>
        </p:nvSpPr>
        <p:spPr>
          <a:xfrm>
            <a:off x="1600200" y="0"/>
            <a:ext cx="6095520" cy="68576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7467120" cy="10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7225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En Tunisie se trouvent ces grottes qui abritent beaucoup de jens .Ils entrent a la maison par un tunnel.Les chambres  sunt situees autour de la “salle” principa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http://www.shelterpub.com/_wonderful_houses/_718/p22-23.jpg"/>
          <p:cNvPicPr/>
          <p:nvPr/>
        </p:nvPicPr>
        <p:blipFill>
          <a:blip r:embed="rId1"/>
          <a:stretch/>
        </p:blipFill>
        <p:spPr>
          <a:xfrm>
            <a:off x="228600" y="1600200"/>
            <a:ext cx="8534160" cy="52574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icture 2"/>
          <p:cNvSpPr/>
          <p:nvPr/>
        </p:nvSpPr>
        <p:spPr>
          <a:xfrm>
            <a:off x="0" y="304920"/>
            <a:ext cx="9143640" cy="63241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304920"/>
            <a:ext cx="7162560" cy="14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345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Cette maison se trouve en Afrique et elle est construite de terre et d’herbe seche sur deux etages.A l’interieur vivent des gens et des animaux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http://www.shelterpub.com/_wonderful_houses/_718/p30-31.jpg"/>
          <p:cNvPicPr/>
          <p:nvPr/>
        </p:nvPicPr>
        <p:blipFill>
          <a:blip r:embed="rId1"/>
          <a:stretch/>
        </p:blipFill>
        <p:spPr>
          <a:xfrm>
            <a:off x="304920" y="1946520"/>
            <a:ext cx="8534160" cy="4911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0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icture 2"/>
          <p:cNvSpPr/>
          <p:nvPr/>
        </p:nvSpPr>
        <p:spPr>
          <a:xfrm>
            <a:off x="0" y="304920"/>
            <a:ext cx="9143640" cy="60195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echnic">
  <a:themeElements>
    <a:clrScheme name="Solstice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chnic">
  <a:themeElements>
    <a:clrScheme name="Solstice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chnic</Template>
  <TotalTime>301</TotalTime>
  <Application>LibreOffice/7.4.7.2$Linux_X86_64 LibreOffice_project/40$Build-2</Application>
  <AppVersion>15.0000</AppVersion>
  <Words>11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HOME</cp:lastModifiedBy>
  <dcterms:modified xsi:type="dcterms:W3CDTF">2011-12-11T16:35:45Z</dcterms:modified>
  <cp:revision>2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0</vt:r8>
  </property>
</Properties>
</file>